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12.jpeg" ContentType="image/jpeg"/>
  <Override PartName="/ppt/media/image9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918B8-85CB-4C76-822C-79CF78A6953D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rosion and Weather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rosion and Weather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UBRI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UBRI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erosion?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geology) the mechanical process of wearing or grinding something down (as by particles washing over it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wearing away of the earth’s surface by natural process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rosion: erosion by chemical acti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erosion?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geology) the mechanical process of wearing or grinding something down (as by particles washing over it)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wearing away of the earth’s surface by natural processe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rrosion: erosion by chemical action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ypes of Ero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laci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i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ypes of Eros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t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in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laci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i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ccurs from chemicals in the water and the force and flow of w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emicals break down certain rocks like limestone or chal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ce of water creates cracks and crevas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get bigger and bigger as it gets eroded, particles of the rock get carried in the water and further aid ero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t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ccurs from chemicals in the water and the force and flow of wat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emicals break down certain rocks like limestone or chalk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orce of water creates cracks and crevass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se get bigger and bigger as it gets eroded, particles of the rock get carried in the water and further aid eros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wind picks up smaller particles of rock (pebbles and sand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hit landforms and take pieces off th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friction causes the break up of landfor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in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wind picks up smaller particles of rock (pebbles and sand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se hit landforms and take pieces off the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friction causes the break up of landform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lacier Ero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a GLACIER?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huge mass of ice slowly flowing over a land mass, formed from compacted snow in an area where snow accumulation exceeds melt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large bodies of ice that pick up rocks and earth and erode the earth’s surf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werful eroding machine, picking up pieces of rock the size of houses in some pla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laciers are so powerful they can carve valleys and create landfor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lacier Eros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a GLACIER?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huge mass of ice slowly flowing over a land mass, formed from compacted snow in an area where snow accumulation exceeds melt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se large bodies of ice that pick up rocks and earth and erode the earth’s surfa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werful eroding machine, picking up pieces of rock the size of houses in some plac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laciers are so powerful they can carve valleys and create landform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a Ero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lts and other chemicals in the water erode coastal rock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are dragged out to sea and deposited in other areas (Long shore Drif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ve power creates erosion. Also particles of rock and sediment aid to the erosion proc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a Eros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alts and other chemicals in the water erode coastal rock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se are dragged out to sea and deposited in other areas (Long shore Drift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ve power creates erosion. Also particles of rock and sediment aid to the erosion proces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il Ero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ggest problem for farm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nd and rain remove topsoil and nutri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kes the soil infertile and it breaks up leaving dong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il Eros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iggest problem for farm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ind and rain remove topsoil and nutrien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kes the soil infertile and it breaks up leaving donga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S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are a forester in South Africa and you have just acquired some land and you are faced with a problem with soil erosion due to poor farming techniqu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R PROBLEM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NGAS CASUED BY EROSION HAVE TAKEN UP CRITICAL SPACE FOR YOU TO PLANT AND GROW TRE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STEPS ARE YOU GOING TO TAKE TO REPAIR THE DONGA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MPROVED PLANTING TECHNIQUES ARE YOU GOING TO US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ASK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You are a forester in South Africa and you have just acquired some land and you are faced with a problem with soil erosion due to poor farming techniques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YOUR PROBLEM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ONGAS CASUED BY EROSION HAVE TAKEN UP CRITICAL SPACE FOR YOU TO PLANT AND GROW TRE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STEPS ARE YOU GOING TO TAKE TO REPAIR THE DONGAS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MPROVED PLANTING TECHNIQUES ARE YOU GOING TO USE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53497-7F54-47E0-9B06-ADE0CB9A1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E09BF-47C9-4319-9F21-43C4FAC4B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B9FF1-FBB2-4EAB-A12F-EE250D0E8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5574E-F722-4DF6-AF36-31B4B236C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AC4B83-2503-43FE-87F3-5FB9B70AC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092974-66D3-4611-9C5F-519689D83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4D6C0E-68BC-4013-AC60-0CD6517A5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B8E17F-FFE4-4724-AF28-597201377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929CF6-4508-47CA-81CE-55CA3653B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ED9427-2EAF-472A-9733-B1A600A93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02E901-73A2-40AD-8132-4F2290470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B6265-8E79-470E-B319-D653F13E8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009B1A-6AC2-4956-A691-C7BAEDE68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7FCFBC-C1D9-4B2E-B507-B1F87E847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BB0EF2-3B76-4BBE-A92B-AE429783F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9CD899-0FE9-4308-819E-38EE46359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703486-F636-45B5-8D73-34FC59AF9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5D9AE-B73D-4970-B422-833298336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E80E9-2057-49B0-9854-AC71CC56F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FB65D-4440-4198-8FE3-1B5748FD2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C3DFA-3DBB-493C-B01E-A2716AF80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4D416-9C79-41AB-B190-3A67CBB7C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EB3B9-E429-424B-A630-957796488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7FE4B-3C76-435A-BF18-D576020F1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5CD67-1A98-4712-9392-B4DCB4246204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4ED5B-6243-466E-BD61-63915EEB7619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5400" spc="-1" strike="noStrike">
                <a:solidFill>
                  <a:srgbClr val="e3e3ff"/>
                </a:solidFill>
                <a:latin typeface="Arial"/>
              </a:rPr>
              <a:t>Erosion and Weathering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e3e3ff"/>
                </a:solidFill>
                <a:latin typeface="Arial"/>
              </a:rPr>
              <a:t>RUBRIC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457200" y="1600200"/>
          <a:ext cx="8229600" cy="4495680"/>
        </p:xfrm>
        <a:graphic>
          <a:graphicData uri="http://schemas.openxmlformats.org/drawingml/2006/table">
            <a:tbl>
              <a:tblPr/>
              <a:tblGrid>
                <a:gridCol w="1320840"/>
                <a:gridCol w="1380960"/>
                <a:gridCol w="1381320"/>
                <a:gridCol w="1382760"/>
                <a:gridCol w="1380960"/>
                <a:gridCol w="1382760"/>
              </a:tblGrid>
              <a:tr h="763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Rubric for task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6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teps to combat problem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Just outline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Just points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o steps good points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Good outline good points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ery good step by step outline with relevant points and techniques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8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Repair Dongas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Just technique no explanation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o technique vague explanation 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dequate technique and vague explanation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Good technique, adequate explanation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Relevant techniques and clear explanation of techniques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14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mproved faming methods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Little effort made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dequate methods no explanation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dequate methods and adequate explanation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Good methods and good explanation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Excellent methods and explanations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42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otal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             </a:t>
                      </a: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77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2" dur="770" fill="hold"/>
                                        <p:tgtEl>
                                          <p:spTgt spid="16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24" dur="77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26" dur="77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000" spc="-1" strike="noStrike">
                <a:solidFill>
                  <a:srgbClr val="e3e3ff"/>
                </a:solidFill>
                <a:latin typeface="Arial"/>
              </a:rPr>
              <a:t>What is erosion?</a:t>
            </a:r>
            <a:br>
              <a:rPr sz="4000"/>
            </a:b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(geology) the mechanical process of wearing or grinding something down (as by particles washing over it)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The wearing away of the earth’s surface by natural processes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orrosion: erosion by chemical action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Picture 8" descr="erosion2"/>
          <p:cNvPicPr/>
          <p:nvPr/>
        </p:nvPicPr>
        <p:blipFill>
          <a:blip r:embed="rId1"/>
          <a:stretch/>
        </p:blipFill>
        <p:spPr>
          <a:xfrm>
            <a:off x="4643280" y="2349360"/>
            <a:ext cx="3810240" cy="25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" nodeType="afterEffect" fill="hold" presetClass="entr" presetID="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1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1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4" nodeType="afterEffect" fill="hold" presetClass="entr" presetID="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9" nodeType="afterEffect" fill="hold" presetClass="entr" presetID="8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e3e3ff"/>
                </a:solidFill>
                <a:latin typeface="Arial"/>
              </a:rPr>
              <a:t>Types of Erosio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ffffff"/>
                </a:solidFill>
                <a:latin typeface="Arial"/>
              </a:rPr>
              <a:t>Wa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ffffff"/>
                </a:solidFill>
                <a:latin typeface="Arial"/>
              </a:rPr>
              <a:t>Wi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ffffff"/>
                </a:solidFill>
                <a:latin typeface="Arial"/>
              </a:rPr>
              <a:t>Glaci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ffffff"/>
                </a:solidFill>
                <a:latin typeface="Arial"/>
              </a:rPr>
              <a:t>Soi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ffffff"/>
                </a:solidFill>
                <a:latin typeface="Arial"/>
              </a:rPr>
              <a:t>Se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2300"/>
                            </p:stCondLst>
                            <p:childTnLst>
                              <p:par>
                                <p:cTn id="4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3300"/>
                            </p:stCondLst>
                            <p:childTnLst>
                              <p:par>
                                <p:cTn id="4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1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1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4300"/>
                            </p:stCondLst>
                            <p:childTnLst>
                              <p:par>
                                <p:cTn id="5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1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1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5300"/>
                            </p:stCondLst>
                            <p:childTnLst>
                              <p:par>
                                <p:cTn id="5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1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1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6300"/>
                            </p:stCondLst>
                            <p:childTnLst>
                              <p:par>
                                <p:cTn id="6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10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10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e3e3ff"/>
                </a:solidFill>
                <a:latin typeface="Arial"/>
              </a:rPr>
              <a:t>Water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400" spc="-1" strike="noStrike">
                <a:solidFill>
                  <a:srgbClr val="ffffff"/>
                </a:solidFill>
                <a:latin typeface="Arial"/>
              </a:rPr>
              <a:t>Occurs from chemicals in the water and the force and flow of wat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400" spc="-1" strike="noStrike">
                <a:solidFill>
                  <a:srgbClr val="ffffff"/>
                </a:solidFill>
                <a:latin typeface="Arial"/>
              </a:rPr>
              <a:t>Chemicals break down certain rocks like limestone or chal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400" spc="-1" strike="noStrike">
                <a:solidFill>
                  <a:srgbClr val="ffffff"/>
                </a:solidFill>
                <a:latin typeface="Arial"/>
              </a:rPr>
              <a:t>Force of water creates cracks and crevass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400" spc="-1" strike="noStrike">
                <a:solidFill>
                  <a:srgbClr val="ffffff"/>
                </a:solidFill>
                <a:latin typeface="Arial"/>
              </a:rPr>
              <a:t>These get bigger and bigger as it gets eroded, particles of the rock get carried in the water and further aid eros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8" descr="Photo: Waterfall and turquoise water on Baffin Island"/>
          <p:cNvPicPr/>
          <p:nvPr/>
        </p:nvPicPr>
        <p:blipFill>
          <a:blip r:embed="rId1"/>
          <a:stretch/>
        </p:blipFill>
        <p:spPr>
          <a:xfrm>
            <a:off x="4643280" y="1628640"/>
            <a:ext cx="3997440" cy="29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10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9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9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1000" fill="hold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e3e3ff"/>
                </a:solidFill>
                <a:latin typeface="Arial"/>
              </a:rPr>
              <a:t>Wind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400" spc="-1" strike="noStrike">
                <a:solidFill>
                  <a:srgbClr val="ffffff"/>
                </a:solidFill>
                <a:latin typeface="Arial"/>
              </a:rPr>
              <a:t>The wind picks up smaller particles of rock (pebbles and sand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400" spc="-1" strike="noStrike">
                <a:solidFill>
                  <a:srgbClr val="ffffff"/>
                </a:solidFill>
                <a:latin typeface="Arial"/>
              </a:rPr>
              <a:t>These hit landforms and take pieces off the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400" spc="-1" strike="noStrike">
                <a:solidFill>
                  <a:srgbClr val="ffffff"/>
                </a:solidFill>
                <a:latin typeface="Arial"/>
              </a:rPr>
              <a:t>This friction causes the break up of landform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Picture 8" descr="nm_Vermilion_080326_ssh"/>
          <p:cNvPicPr/>
          <p:nvPr/>
        </p:nvPicPr>
        <p:blipFill>
          <a:blip r:embed="rId1"/>
          <a:stretch/>
        </p:blipFill>
        <p:spPr>
          <a:xfrm>
            <a:off x="108000" y="189000"/>
            <a:ext cx="3263760" cy="25257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0" descr="dscn2150"/>
          <p:cNvPicPr/>
          <p:nvPr/>
        </p:nvPicPr>
        <p:blipFill>
          <a:blip r:embed="rId2"/>
          <a:stretch/>
        </p:blipFill>
        <p:spPr>
          <a:xfrm>
            <a:off x="179280" y="2997360"/>
            <a:ext cx="2052720" cy="27352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2" descr="sol_wind_erosion_BGR_big"/>
          <p:cNvPicPr/>
          <p:nvPr/>
        </p:nvPicPr>
        <p:blipFill>
          <a:blip r:embed="rId3"/>
          <a:stretch/>
        </p:blipFill>
        <p:spPr>
          <a:xfrm>
            <a:off x="3780000" y="3645000"/>
            <a:ext cx="4572000" cy="30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1300"/>
                            </p:stCondLst>
                            <p:childTnLst>
                              <p:par>
                                <p:cTn id="11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30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4300"/>
                            </p:stCondLst>
                            <p:childTnLst>
                              <p:par>
                                <p:cTn id="120" nodeType="afterEffect" fill="hold" presetClass="entr" presetID="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10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10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6800"/>
                            </p:stCondLst>
                            <p:childTnLst>
                              <p:par>
                                <p:cTn id="125" nodeType="afterEffect" fill="hold" presetClass="entr" presetID="4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7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9300"/>
                            </p:stCondLst>
                            <p:childTnLst>
                              <p:par>
                                <p:cTn id="129" nodeType="afterEffect" fill="hold" presetClass="entr" presetID="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11300"/>
                            </p:stCondLst>
                            <p:childTnLst>
                              <p:par>
                                <p:cTn id="134" nodeType="afterEffect" fill="hold" presetClass="entr" presetID="31">
                                  <p:stCondLst>
                                    <p:cond delay="1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e3e3ff"/>
                </a:solidFill>
                <a:latin typeface="Arial"/>
              </a:rPr>
              <a:t>Glacier Erosio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400" spc="-1" strike="noStrike">
                <a:solidFill>
                  <a:srgbClr val="ffffff"/>
                </a:solidFill>
                <a:latin typeface="Arial"/>
              </a:rPr>
              <a:t>What is a GLACIER?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000" spc="-1" strike="noStrike">
                <a:solidFill>
                  <a:srgbClr val="ffffff"/>
                </a:solidFill>
                <a:latin typeface="Arial"/>
              </a:rPr>
              <a:t>A huge mass of ice slowly flowing over a land mass, formed from compacted snow in an area where snow accumulation exceeds meltin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400" spc="-1" strike="noStrike">
                <a:solidFill>
                  <a:srgbClr val="ffffff"/>
                </a:solidFill>
                <a:latin typeface="Arial"/>
              </a:rPr>
              <a:t>These large bodies of ice that pick up rocks and earth and erode the earth’s surfa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400" spc="-1" strike="noStrike">
                <a:solidFill>
                  <a:srgbClr val="ffffff"/>
                </a:solidFill>
                <a:latin typeface="Arial"/>
              </a:rPr>
              <a:t>Powerful eroding machine, picking up pieces of rock the size of houses in some plac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400" spc="-1" strike="noStrike">
                <a:solidFill>
                  <a:srgbClr val="ffffff"/>
                </a:solidFill>
                <a:latin typeface="Arial"/>
              </a:rPr>
              <a:t>Glaciers are so powerful they can carve valleys and create landform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Picture 8" descr="image024"/>
          <p:cNvPicPr/>
          <p:nvPr/>
        </p:nvPicPr>
        <p:blipFill>
          <a:blip r:embed="rId1"/>
          <a:stretch/>
        </p:blipFill>
        <p:spPr>
          <a:xfrm>
            <a:off x="4500720" y="1484280"/>
            <a:ext cx="4392360" cy="31860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0" descr="MuldrowGlacier(2)"/>
          <p:cNvPicPr/>
          <p:nvPr/>
        </p:nvPicPr>
        <p:blipFill>
          <a:blip r:embed="rId2"/>
          <a:stretch/>
        </p:blipFill>
        <p:spPr>
          <a:xfrm>
            <a:off x="324000" y="4149720"/>
            <a:ext cx="3382920" cy="24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1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1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57" nodeType="afterEffect" fill="hold" presetClass="entr" presetID="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10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10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62" nodeType="afterEffect" fill="hold" presetClass="entr" presetID="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10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67" nodeType="afterEffect" fill="hold" presetClass="entr" presetID="31">
                                  <p:stCondLst>
                                    <p:cond delay="1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174" nodeType="afterEffect" fill="hold" presetClass="entr" presetID="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10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10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179" nodeType="afterEffect" fill="hold" presetClass="entr" presetID="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10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10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184" nodeType="afterEffect" fill="hold" presetClass="entr" presetID="3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e3e3ff"/>
                </a:solidFill>
                <a:latin typeface="Arial"/>
              </a:rPr>
              <a:t>Sea Erosio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400" spc="-1" strike="noStrike">
                <a:solidFill>
                  <a:srgbClr val="ffffff"/>
                </a:solidFill>
                <a:latin typeface="Arial"/>
              </a:rPr>
              <a:t>Salts and other chemicals in the water erode coastal rock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400" spc="-1" strike="noStrike">
                <a:solidFill>
                  <a:srgbClr val="ffffff"/>
                </a:solidFill>
                <a:latin typeface="Arial"/>
              </a:rPr>
              <a:t>These are dragged out to sea and deposited in other areas (Long shore Drif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400" spc="-1" strike="noStrike">
                <a:solidFill>
                  <a:srgbClr val="ffffff"/>
                </a:solidFill>
                <a:latin typeface="Arial"/>
              </a:rPr>
              <a:t>Wave power creates erosion. Also particles of rock and sediment aid to the erosion proces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8" descr="erodedbeach"/>
          <p:cNvPicPr/>
          <p:nvPr/>
        </p:nvPicPr>
        <p:blipFill>
          <a:blip r:embed="rId1"/>
          <a:stretch/>
        </p:blipFill>
        <p:spPr>
          <a:xfrm>
            <a:off x="250920" y="1197000"/>
            <a:ext cx="3809880" cy="266688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0" descr="biarritz-stone-bridge"/>
          <p:cNvPicPr/>
          <p:nvPr/>
        </p:nvPicPr>
        <p:blipFill>
          <a:blip r:embed="rId2"/>
          <a:stretch/>
        </p:blipFill>
        <p:spPr>
          <a:xfrm>
            <a:off x="5796000" y="4149720"/>
            <a:ext cx="3205080" cy="240048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2" descr="fg_mustang_3"/>
          <p:cNvPicPr/>
          <p:nvPr/>
        </p:nvPicPr>
        <p:blipFill>
          <a:blip r:embed="rId3"/>
          <a:stretch/>
        </p:blipFill>
        <p:spPr>
          <a:xfrm>
            <a:off x="324000" y="4017960"/>
            <a:ext cx="4787640" cy="28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2" nodeType="afterEffect" fill="hold" presetClass="entr" presetID="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07" nodeType="afterEffect" fill="hold" presetClass="entr" presetID="5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9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11" nodeType="afterEffect" fill="hold" presetClass="entr" presetID="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10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216" nodeType="afterEffect" fill="hold" presetClass="entr" presetID="5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220" nodeType="afterEffect" fill="hold" presetClass="entr" presetID="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225" nodeType="afterEffect" fill="hold" presetClass="entr" presetID="31">
                                  <p:stCondLst>
                                    <p:cond delay="1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e3e3ff"/>
                </a:solidFill>
                <a:latin typeface="Arial"/>
              </a:rPr>
              <a:t>Soil Erosio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400" spc="-1" strike="noStrike">
                <a:solidFill>
                  <a:srgbClr val="ffffff"/>
                </a:solidFill>
                <a:latin typeface="Arial"/>
              </a:rPr>
              <a:t>Biggest problem for farmer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400" spc="-1" strike="noStrike">
                <a:solidFill>
                  <a:srgbClr val="ffffff"/>
                </a:solidFill>
                <a:latin typeface="Arial"/>
              </a:rPr>
              <a:t>Wind and rain remove topsoil and nutrien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400" spc="-1" strike="noStrike">
                <a:solidFill>
                  <a:srgbClr val="ffffff"/>
                </a:solidFill>
                <a:latin typeface="Arial"/>
              </a:rPr>
              <a:t>Makes the soil infertile and it breaks up leaving donga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1" name="Picture 8" descr="sierra_madre_gully"/>
          <p:cNvPicPr/>
          <p:nvPr/>
        </p:nvPicPr>
        <p:blipFill>
          <a:blip r:embed="rId1"/>
          <a:stretch/>
        </p:blipFill>
        <p:spPr>
          <a:xfrm>
            <a:off x="250920" y="3357720"/>
            <a:ext cx="4127400" cy="309564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0" descr="fig07"/>
          <p:cNvPicPr/>
          <p:nvPr/>
        </p:nvPicPr>
        <p:blipFill>
          <a:blip r:embed="rId2"/>
          <a:stretch/>
        </p:blipFill>
        <p:spPr>
          <a:xfrm>
            <a:off x="5003640" y="1916280"/>
            <a:ext cx="3810240" cy="28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9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" nodeType="afterEffect" fill="hold" presetClass="entr" presetID="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1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1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47" nodeType="afterEffect" fill="hold" presetClass="entr" presetID="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10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52" nodeType="afterEffect" fill="hold" presetClass="entr" presetID="31">
                                  <p:stCondLst>
                                    <p:cond delay="1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259" nodeType="afterEffect" fill="hold" presetClass="entr" presetID="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10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264" nodeType="afterEffect" fill="hold" presetClass="entr" presetID="25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e3e3ff"/>
                </a:solidFill>
                <a:latin typeface="Arial"/>
              </a:rPr>
              <a:t>TASK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1970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400" spc="-1" strike="noStrike">
                <a:solidFill>
                  <a:srgbClr val="ffffff"/>
                </a:solidFill>
                <a:latin typeface="Arial"/>
              </a:rPr>
              <a:t>You are a forester in South Africa and you have just acquired some land and you are faced with a problem with soil erosion due to poor farming techniques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1400" spc="-1" strike="noStrike" u="sng">
                <a:solidFill>
                  <a:srgbClr val="ffffff"/>
                </a:solidFill>
                <a:uFillTx/>
                <a:latin typeface="Arial"/>
              </a:rPr>
              <a:t>YOUR PROBLEM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"/>
              </a:rPr>
              <a:t>DONGAS CASUED BY EROSION HAVE TAKEN UP CRITICAL SPACE FOR YOU TO PLANT AND GROW TRE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"/>
              </a:rPr>
              <a:t>WHAT STEPS ARE YOU GOING TO TAKE TO REPAIR THE DONGAS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"/>
              </a:rPr>
              <a:t>WHAT IMPROVED PLANTING TECHNIQUES ARE YOU GOING TO USE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Picture 5" descr="Hallet_Cove_017"/>
          <p:cNvPicPr/>
          <p:nvPr/>
        </p:nvPicPr>
        <p:blipFill>
          <a:blip r:embed="rId1"/>
          <a:stretch/>
        </p:blipFill>
        <p:spPr>
          <a:xfrm>
            <a:off x="3276720" y="2565360"/>
            <a:ext cx="2808000" cy="21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3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10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10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88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10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10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1000" fill="hold"/>
                                        <p:tgtEl>
                                          <p:spTgt spid="1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1000" fill="hold"/>
                                        <p:tgtEl>
                                          <p:spTgt spid="1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99" nodeType="afterEffect" fill="hold" presetClass="entr" presetID="31">
                                  <p:stCondLst>
                                    <p:cond delay="1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06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1000" fill="hold"/>
                                        <p:tgtEl>
                                          <p:spTgt spid="16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1000" fill="hold"/>
                                        <p:tgtEl>
                                          <p:spTgt spid="16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11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1000" fill="hold"/>
                                        <p:tgtEl>
                                          <p:spTgt spid="16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1000" fill="hold"/>
                                        <p:tgtEl>
                                          <p:spTgt spid="16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0T11:53:14Z</dcterms:created>
  <dc:creator>hendersonb</dc:creator>
  <dc:description/>
  <dc:language>en-US</dc:language>
  <cp:lastModifiedBy>RomaK</cp:lastModifiedBy>
  <dcterms:modified xsi:type="dcterms:W3CDTF">2015-09-04T09:42:17Z</dcterms:modified>
  <cp:revision>8</cp:revision>
  <dc:subject/>
  <dc:title>Erosion and Weathering</dc:title>
</cp:coreProperties>
</file>